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5E6B-E041-4B4F-97CA-F28F78EF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B7CB-AA8A-4259-AF95-573D69E1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50D3-8B91-4AB3-9E20-8162E7AE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2FD4-E311-4698-9F80-92C15D2E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54CC-55D4-46DB-BADE-C9D0D11C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A785-CC5A-4EDD-BF85-92B8F1CD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7A5E-35D2-489B-BF03-9656BAEB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FC61-F200-4A38-9846-7F14624A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6A2A-8BCA-423F-8002-60E76194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0124-0F06-40B4-804E-3876D7FF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C6B8-BAF3-415A-A2D2-5FFCCF87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B84B-D868-45CF-9E28-10EE023A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9AF7-5CD8-4DF8-8262-D631254E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A39A-06A2-40D6-96A2-9286C763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4DAB-4932-4BA0-8EA8-A8DD1B9F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67E6-68F4-4E91-BCA6-DEC45B1E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C91D-9833-4467-848C-E3B4F199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F80D-58DD-4C38-9367-A395135E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4A54-7383-4B4A-A575-F81771D8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0E7B-61D8-4597-82CF-4E074663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95DD-2DDC-43E9-94F1-7CDBD09D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08FA-04EA-4BA3-A3A6-70D7C74B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D44A-79A7-48DE-BF99-4FC66544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A07F-A31E-4CE6-8BCD-459D5CD4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19B5-41BB-4027-A18D-A0B8490DD6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DBF3-C115-4C9E-AE0F-F66AC3E207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Mr. Obama’s Spee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reat Spee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atched the President’s spee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wards, we made goal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are our combined goal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o dr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my grandfather in New York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o sew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a job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Las Ve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diamond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7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75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75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adem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o read and understand bette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more Scienc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o use a calculato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a better write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more experiment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diamond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the park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bowling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more about my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a better swi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the b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 to keep my community c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diamond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75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75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75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75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75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75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 our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an 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St. Louis, Missou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y in the USA (born elsewhe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about my new cou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diamond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nk you for reading our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7:02:04Z</dcterms:created>
  <dc:creator>Teacher PLMS</dc:creator>
  <dc:description/>
  <dc:language>en-US</dc:language>
  <cp:lastModifiedBy>Teacher PLMS</cp:lastModifiedBy>
  <dcterms:modified xsi:type="dcterms:W3CDTF">2009-09-11T16:52:30Z</dcterms:modified>
  <cp:revision>26</cp:revision>
  <dc:subject/>
  <dc:title>Goals</dc:title>
</cp:coreProperties>
</file>